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4B5A-9551-42A7-9E3C-6E4EF2CE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4A68-47EF-41C9-80E2-10736BEE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7A90-DAC5-4865-8EF6-EBFD09BD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B17D-2554-4294-9B8E-0B2D04C3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10F6-574B-489E-9B4B-269EC3E3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648E-03F0-4F53-A8B2-1BFB0214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D703-025A-4C4F-9415-8D0A1288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E37B-BE92-4EC9-BD48-CEB0939E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B9A6-94BE-4F77-ABDA-A5D8B177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CF4F-5DB4-4A0A-BD6D-4FA6757E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7BBF-EB55-476C-A36A-076A9AC7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7E09-B73D-47DF-A7AA-CF1CB8DD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00F3-AF9D-4F27-9578-E3863B86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EE10-46E8-4919-B2C7-3FE36C1B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4924-83BD-4743-8144-9994D8A8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26FE-8B2E-4A00-A66C-3ECBF007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92F4-5D80-4C0F-8577-E4E11BC7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7D3C-3ADB-4FB1-AB8E-26C0C470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A60A-81A3-4EE6-A881-5FB90CC0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92DC-B33B-4BFE-9B92-C2FBC0F9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57ED-772D-4268-BCE9-0718854D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2FB3-9312-45E6-BE69-8CDA17D3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D748-C4AF-4683-A2A5-14FEB212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8A92-EF9A-4549-986C-B767CBD4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A8B2-56E9-4BA9-88EC-34C495B8B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8C19-A20C-4FEB-AAA6-A37959FDA84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Marsilio Ficino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Picture 5" descr="Marsilio_Ficino"/>
          <p:cNvPicPr/>
          <p:nvPr/>
        </p:nvPicPr>
        <p:blipFill>
          <a:blip r:embed="rId1"/>
          <a:stretch/>
        </p:blipFill>
        <p:spPr>
          <a:xfrm>
            <a:off x="1371600" y="2286000"/>
            <a:ext cx="2381400" cy="2924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Marsilio%20Ficino"/>
          <p:cNvPicPr/>
          <p:nvPr/>
        </p:nvPicPr>
        <p:blipFill>
          <a:blip r:embed="rId2"/>
          <a:stretch/>
        </p:blipFill>
        <p:spPr>
          <a:xfrm>
            <a:off x="5181480" y="2362320"/>
            <a:ext cx="24638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259092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17528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Red Line-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Republic of Florenc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border lin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Black Dot-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Birthplace of Ficino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Brown Dot-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Place Ficino Die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Green Dot-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The city Florence &amp;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here Platonic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Academy i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Picture 8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58676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03:13:37Z</dcterms:created>
  <dc:creator>bbc</dc:creator>
  <dc:description/>
  <dc:language>en-US</dc:language>
  <cp:lastModifiedBy>Keith Pagnotto-Hammit</cp:lastModifiedBy>
  <dcterms:modified xsi:type="dcterms:W3CDTF">2010-11-12T12:16:57Z</dcterms:modified>
  <cp:revision>3</cp:revision>
  <dc:subject/>
  <dc:title>Marsilio Ficino</dc:title>
</cp:coreProperties>
</file>